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46D-DDF5-4956-93A1-79DD3242B8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5A1B-DA83-49FA-9EF0-AF16951256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401D-D0F4-40C7-AA1E-DAEB9D508C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550-ED9A-4773-B4D4-1027C97D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110-4222-4874-9861-FF8B5BC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F1B-0C2B-4457-9EBD-CC4B7EC5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FAA-5F3E-43B2-ABCB-91F34CD2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4E24-0099-4390-BD58-FEA4D4FF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680E-4AE6-44EA-BAFA-245D5EB5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16F-7538-4D10-85AD-DAD0373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21CE-D9BA-4D3E-A92C-E384410E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ED2F-424F-4B5C-BD44-3996D547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F019-B118-42BC-88CE-0FA4A928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6DAE-0042-4758-8622-D1F2D54F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D73-DBCF-41FD-B6B7-AFCC97D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BBCE-ABD2-4A47-BC02-50B5894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D7DE-D77E-4C57-8833-ACD8934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C9F0-A1A2-4122-8AF1-21C363E7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4A62-8579-4752-8C79-40AE1DDC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8D20-4557-414A-818A-67DB6AC8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F14-FC85-40E9-8C35-6059E0A5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CE5-589C-4360-9445-DBF4C1DF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9AC-827E-4C13-B017-251D0F51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25B-5BE4-4889-9958-6E004FEE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1E4-8EB0-4D17-BDDE-DB52815B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932-C46A-4AC6-8E8D-64150E2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5A0-8687-4CCA-AD6C-A59C14A5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F07A-4AE7-422D-BF1E-B93FFBC98218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8EAB-4CD5-487B-A81A-EBBE8C4A800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8FC-1BAD-48AC-98EA-3005CB266922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7A2F-D47A-43E4-ADF1-F1B50F593F9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1547640" y="1628640"/>
            <a:ext cx="64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9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理与应用 一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6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2246400"/>
            <a:ext cx="3929040" cy="33973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7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286160" y="2571840"/>
            <a:ext cx="4408560" cy="250488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"/>
          <p:cNvSpPr/>
          <p:nvPr/>
        </p:nvSpPr>
        <p:spPr>
          <a:xfrm>
            <a:off x="1000080" y="1212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7"/>
          <p:cNvSpPr/>
          <p:nvPr/>
        </p:nvSpPr>
        <p:spPr>
          <a:xfrm>
            <a:off x="6500880" y="2571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7143840" y="3548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6929280" y="4500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642960" y="92880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衬衫比一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衬衫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某公司购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衬衫的件数相同，购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衬衫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衬衫多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两种衬衫各买多少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6"/>
          <p:cNvSpPr/>
          <p:nvPr/>
        </p:nvSpPr>
        <p:spPr>
          <a:xfrm>
            <a:off x="1857240" y="271476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种衬衫单价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种衬衫单价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0"/>
          <p:cNvSpPr/>
          <p:nvPr/>
        </p:nvSpPr>
        <p:spPr>
          <a:xfrm>
            <a:off x="1714680" y="328608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种衬衫总价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种衬衫总价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3143160" y="378612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0÷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3"/>
          <p:cNvSpPr/>
          <p:nvPr/>
        </p:nvSpPr>
        <p:spPr>
          <a:xfrm>
            <a:off x="2143080" y="4299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两种衬衫各买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785880" y="9698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某公司购买了相同件数的羊毛衫和衬衣，买羊毛衫用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买衬衣用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一件羊毛衫比一件衬衣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羊毛衫和衬衣各买了多少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8"/>
          <p:cNvSpPr/>
          <p:nvPr/>
        </p:nvSpPr>
        <p:spPr>
          <a:xfrm>
            <a:off x="2786040" y="30481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0"/>
          <p:cNvSpPr/>
          <p:nvPr/>
        </p:nvSpPr>
        <p:spPr>
          <a:xfrm>
            <a:off x="2714760" y="35481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80÷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21"/>
          <p:cNvSpPr/>
          <p:nvPr/>
        </p:nvSpPr>
        <p:spPr>
          <a:xfrm>
            <a:off x="2714760" y="39765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7"/>
          <p:cNvSpPr/>
          <p:nvPr/>
        </p:nvSpPr>
        <p:spPr>
          <a:xfrm>
            <a:off x="2286000" y="45007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羊毛衫和衬衣各买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95520" y="1500120"/>
            <a:ext cx="6119640" cy="18464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91"/>
          <p:cNvSpPr/>
          <p:nvPr/>
        </p:nvSpPr>
        <p:spPr>
          <a:xfrm>
            <a:off x="500040" y="857160"/>
            <a:ext cx="82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相同的时间里，一辆轿车和一辆面包车行驶的路程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轿车每小时比面包车多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。两辆车各行驶了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9"/>
          <p:cNvSpPr/>
          <p:nvPr/>
        </p:nvSpPr>
        <p:spPr>
          <a:xfrm>
            <a:off x="3286080" y="4214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4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÷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0"/>
          <p:cNvSpPr/>
          <p:nvPr/>
        </p:nvSpPr>
        <p:spPr>
          <a:xfrm>
            <a:off x="3143160" y="46911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÷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1"/>
          <p:cNvSpPr/>
          <p:nvPr/>
        </p:nvSpPr>
        <p:spPr>
          <a:xfrm>
            <a:off x="3143160" y="51195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2"/>
          <p:cNvSpPr/>
          <p:nvPr/>
        </p:nvSpPr>
        <p:spPr>
          <a:xfrm>
            <a:off x="2500200" y="561960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两辆车各行驶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95520" y="1500120"/>
            <a:ext cx="6119640" cy="184644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91"/>
          <p:cNvSpPr/>
          <p:nvPr/>
        </p:nvSpPr>
        <p:spPr>
          <a:xfrm>
            <a:off x="500040" y="857160"/>
            <a:ext cx="82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相同的时间里，一辆轿车和一辆面包车行驶的路程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轿车每小时比面包车多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。两辆车的速度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3062160" y="40719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48÷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0"/>
          <p:cNvSpPr/>
          <p:nvPr/>
        </p:nvSpPr>
        <p:spPr>
          <a:xfrm>
            <a:off x="2919240" y="4548240"/>
            <a:ext cx="32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2÷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2"/>
          <p:cNvSpPr/>
          <p:nvPr/>
        </p:nvSpPr>
        <p:spPr>
          <a:xfrm>
            <a:off x="2286000" y="5048280"/>
            <a:ext cx="51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轿车的速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；  面包车的速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91"/>
          <p:cNvSpPr/>
          <p:nvPr/>
        </p:nvSpPr>
        <p:spPr>
          <a:xfrm>
            <a:off x="785880" y="1039680"/>
            <a:ext cx="77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一包面粉，刚好可以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刀切馒头。如果都做肉包子，刚好可以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。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刀切馒头的面粉比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肉包子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刀切馒头，还差面粉多少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22"/>
          <p:cNvSpPr/>
          <p:nvPr/>
        </p:nvSpPr>
        <p:spPr>
          <a:xfrm>
            <a:off x="2000160" y="37861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刀切馒头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包子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3"/>
          <p:cNvSpPr/>
          <p:nvPr/>
        </p:nvSpPr>
        <p:spPr>
          <a:xfrm>
            <a:off x="3286080" y="4357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×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4"/>
          <p:cNvSpPr/>
          <p:nvPr/>
        </p:nvSpPr>
        <p:spPr>
          <a:xfrm>
            <a:off x="1143000" y="4905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如果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刀切馒头，还差面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26"/>
          <p:cNvGrpSpPr/>
          <p:nvPr/>
        </p:nvGrpSpPr>
        <p:grpSpPr>
          <a:xfrm>
            <a:off x="2928960" y="3214800"/>
            <a:ext cx="3562200" cy="520560"/>
            <a:chOff x="2928960" y="3214800"/>
            <a:chExt cx="3562200" cy="520560"/>
          </a:xfrm>
        </p:grpSpPr>
        <p:pic>
          <p:nvPicPr>
            <p:cNvPr id="613" name="Picture 26" descr=""/>
            <p:cNvPicPr/>
            <p:nvPr/>
          </p:nvPicPr>
          <p:blipFill>
            <a:blip r:embed="rId1"/>
            <a:stretch/>
          </p:blipFill>
          <p:spPr>
            <a:xfrm>
              <a:off x="5776920" y="3314880"/>
              <a:ext cx="37944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27" descr=""/>
            <p:cNvPicPr/>
            <p:nvPr/>
          </p:nvPicPr>
          <p:blipFill>
            <a:blip r:embed="rId2"/>
            <a:stretch/>
          </p:blipFill>
          <p:spPr>
            <a:xfrm>
              <a:off x="3760200" y="3283920"/>
              <a:ext cx="373680" cy="3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25"/>
            <p:cNvSpPr/>
            <p:nvPr/>
          </p:nvSpPr>
          <p:spPr>
            <a:xfrm>
              <a:off x="2928960" y="3214800"/>
              <a:ext cx="35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个    →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91"/>
          <p:cNvSpPr/>
          <p:nvPr/>
        </p:nvSpPr>
        <p:spPr>
          <a:xfrm>
            <a:off x="785880" y="1039680"/>
            <a:ext cx="77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一包面粉，刚好可以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刀切馒头。如果都做肉包子，刚好可以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。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刀切馒头的面粉比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肉包子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如果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肉包子，还剩面粉多少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2000160" y="37861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包子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刀切馒头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3"/>
          <p:cNvSpPr/>
          <p:nvPr/>
        </p:nvSpPr>
        <p:spPr>
          <a:xfrm>
            <a:off x="3286080" y="4357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×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4"/>
          <p:cNvSpPr/>
          <p:nvPr/>
        </p:nvSpPr>
        <p:spPr>
          <a:xfrm>
            <a:off x="1643040" y="49053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如果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肉包子，还剩面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组合 26"/>
          <p:cNvGrpSpPr/>
          <p:nvPr/>
        </p:nvGrpSpPr>
        <p:grpSpPr>
          <a:xfrm>
            <a:off x="2928960" y="3214800"/>
            <a:ext cx="3562200" cy="520560"/>
            <a:chOff x="2928960" y="3214800"/>
            <a:chExt cx="3562200" cy="520560"/>
          </a:xfrm>
        </p:grpSpPr>
        <p:sp>
          <p:nvSpPr>
            <p:cNvPr id="621" name="TextBox 25"/>
            <p:cNvSpPr/>
            <p:nvPr/>
          </p:nvSpPr>
          <p:spPr>
            <a:xfrm>
              <a:off x="2928960" y="3214800"/>
              <a:ext cx="35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个    →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Picture 26" descr=""/>
            <p:cNvPicPr/>
            <p:nvPr/>
          </p:nvPicPr>
          <p:blipFill>
            <a:blip r:embed="rId1"/>
            <a:stretch/>
          </p:blipFill>
          <p:spPr>
            <a:xfrm>
              <a:off x="3835440" y="3357720"/>
              <a:ext cx="379440" cy="3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27" descr=""/>
            <p:cNvPicPr/>
            <p:nvPr/>
          </p:nvPicPr>
          <p:blipFill>
            <a:blip r:embed="rId2"/>
            <a:stretch/>
          </p:blipFill>
          <p:spPr>
            <a:xfrm>
              <a:off x="5770080" y="3283920"/>
              <a:ext cx="373680" cy="38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3:10Z</dcterms:modified>
  <cp:revision>1</cp:revision>
  <dc:subject/>
  <dc:title/>
</cp:coreProperties>
</file>